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414E-941F-46CD-9F02-5D6397CFC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177F-EE1F-4AD3-97A9-45038FEF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ED1D-C46F-4249-8936-F49738084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DBA3-A9BD-4DC4-B842-004A32D13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1313-C695-4579-AF1B-C2C30C32C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8006-A67D-43DC-94A2-7DC8ED7B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BF92-9F9B-487D-82D5-9EED7A32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4A536-E17C-404F-8F9D-CD095F30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C2AE-4E8E-4AB0-9F8B-8490FFCE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68DA-B720-4DFE-B659-FC159DC1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3920-C8AE-4BF0-A67E-B561D75A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4819-D45B-4D2C-BD51-ABF5C16F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02BE-8376-4C78-B861-4AA79BDD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D4EE-6B14-4B59-AB59-F916D1DC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6F78B-82E9-4D6D-9F16-8207C7C1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B4AD-C123-4AA7-B030-12CF6648A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B685-CEBB-4E88-9CB8-413B0056A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058D-9A41-43CA-8091-45A8ADF2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E5D7-B816-4264-A4C3-26BA36A3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FECB-7B78-4BF5-A019-D282C8BE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419F-35AF-4AA7-81BA-3DC91A1E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E492-DF39-4AE6-AA4C-88B91A4E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8D97-947C-48CB-ADAF-51605A0B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9C50-725F-44EF-9D51-3AED4264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EE3B-3440-4DDB-B50D-92047DE490F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748F-E00F-4BF3-903E-D56E141C3CB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a/imgres?imgurl=http://climatechange.foreignpolicyblogs.com/files/2009/03/450-world-wind-power.jpg&amp;imgrefurl=http://climatechange.foreignpolicyblogs.com/tag/wind-power/&amp;usg=__XKGf_ek4KNeF39j2LF8z9jdVo1I=&amp;h=505&amp;w=450&amp;sz=65&amp;hl=en&amp;start=9&amp;zoom=1&amp;tbnid=qkILqPsMA6JYRM:&amp;tbnh=130&amp;tbnw=116&amp;ei=UKo1TfDgH86s8Abbm9DMCA&amp;prev=/images%3Fq%3Dwind%2Bpower%2Bin%2Bthe%2Bworld%26hl%3Den%26safe%3Dactive%26gbv%3D2%26tbs%3Disch:1&amp;itbs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1412640"/>
            <a:ext cx="39956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Wind power is very good because th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nergy works by the wind. How it work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Is there is a transformer then a generator, then high –speed shaft then it goes to the gearbox then, a low-speed shaft then after that, a brake and a Rotor Hub and there is a tower then,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 rotor blade then after, Nacelle and last, a hub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24000" y="260280"/>
            <a:ext cx="4465440" cy="90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WIND POWER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9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1773360"/>
            <a:ext cx="4356000" cy="5084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0" y="3645000"/>
            <a:ext cx="380988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idal energ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51280" y="836640"/>
            <a:ext cx="325116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Tidal energy, a very powerful source of energy on water. For an example,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There is a duct, then after, a turbine, that activates the rotor blades, then a generator module then a removable cassette that pumps the water, then after, a gravity base. The 1MW RTT unit for the duct diameter is 15 meters and is 19.2 meters and the turbine diameter is 11.5 meters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3362400"/>
            <a:ext cx="523872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lar energ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8280360" cy="19447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olar energy, is  very good for the earth because the sun makes it works by the sun. How solar energy works is the sun that shines on a Module then goes to a battery charge controller then after that, a battery then a DC loads then it goes to a battery system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3789360"/>
            <a:ext cx="3270240" cy="3068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419640" y="3867120"/>
            <a:ext cx="400356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ydro energ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03640" y="1988640"/>
            <a:ext cx="28195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ydro energy, works by a generator and  how it works is the water flows through the rotor goes to the stator then after, a turbine generator shaft then a turbine then the water flows to the turbine blades and last, a wicket gate where the water leaves the gat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353376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uclear energ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51640" y="333360"/>
            <a:ext cx="3178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toms are heated and the steam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oes to the turbine which spins because of the steam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ectricity is produced when the turbine spins. The electricity goes to the generator and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 sent to people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1746360" cy="1341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nuclear power"/>
          <p:cNvPicPr/>
          <p:nvPr/>
        </p:nvPicPr>
        <p:blipFill>
          <a:blip r:embed="rId2"/>
          <a:stretch/>
        </p:blipFill>
        <p:spPr>
          <a:xfrm>
            <a:off x="4932360" y="4076640"/>
            <a:ext cx="4211640" cy="2781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0" y="4149720"/>
            <a:ext cx="3492360" cy="2708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2268360" y="1700280"/>
            <a:ext cx="2875320" cy="24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5:08:19Z</dcterms:created>
  <dc:creator>HWDSB</dc:creator>
  <dc:description/>
  <dc:language>en-US</dc:language>
  <cp:lastModifiedBy>HWDSB</cp:lastModifiedBy>
  <dcterms:modified xsi:type="dcterms:W3CDTF">2011-01-19T14:51:58Z</dcterms:modified>
  <cp:revision>5</cp:revision>
  <dc:subject/>
  <dc:title>Slide 1</dc:title>
</cp:coreProperties>
</file>